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700-24D8-4711-82F9-1B2B6A18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690-DB3E-47E3-8505-175911E1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DAC-00CD-4C56-BA3A-9C6EDF9A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949-493E-44F8-A0CC-DB91001D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E9BBF-0964-4219-92FE-532862E3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D7FC6-A551-4CE8-936C-4DD7492D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EBCF5-83C6-4C2B-B160-8D51FAB8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51E59-72F7-4916-BDF5-5AAAABCF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A6414-9B43-48C4-A37F-C0064802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03991-4E55-4A63-B5C2-965116D6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8A400-17DB-4363-BD9A-945E79D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FE6-8AA9-444A-9C44-82280749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272B1-DD91-4F2C-A74F-775AE7C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912F0-DCA1-41BA-96C5-A6A141D0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982D2-F765-4BD3-BF1B-7C9694C2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40009-DB12-4E63-884A-6B734D06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46EDF-3D3C-47CF-A101-D7E8A7E5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C404-4245-4455-8A7B-57AC7687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2E8-ADD4-4900-8973-E487AC15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153-DE78-4724-9BE1-C28C28C8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E55-D9BA-4F79-BE3E-8BEBACAA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481-650C-4D0B-A9D4-89601E3D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8E6-42B0-4763-B67A-2EFDAF34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C3E-4D7D-4AAD-AA51-497B5C1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AB89-1A08-466D-92ED-C46143B8E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09F0-B5AD-4CA0-B85B-FBA93124E6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spec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adica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ts of change; likes to shake things 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aditiona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kes things the way they are; no change at a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derat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 between; less extre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04920" y="2819520"/>
            <a:ext cx="27432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ITION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hang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429000" y="281952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DER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629400" y="2819520"/>
            <a:ext cx="2133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DIC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chan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04920" y="266688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ITION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guns leg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505320" y="2666880"/>
            <a:ext cx="25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DER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rict gun us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629400" y="2666880"/>
            <a:ext cx="2133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DIC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law all gu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04920" y="2209680"/>
            <a:ext cx="28191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ITION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phone use anywhere, any ti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429000" y="2209680"/>
            <a:ext cx="2590920" cy="33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DER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phone use while driving, only with hands free devi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553080" y="2209680"/>
            <a:ext cx="2133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DIC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ell phone use by driv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0880" y="2362320"/>
            <a:ext cx="2743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ITION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drug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429000" y="2362320"/>
            <a:ext cx="2590920" cy="35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DER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use by responsible peop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6553080" y="2362320"/>
            <a:ext cx="2133720" cy="18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DIC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dru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04920" y="2362320"/>
            <a:ext cx="2895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ITION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king is O.K. everywhe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429000" y="2362320"/>
            <a:ext cx="259092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DER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king in approved are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553080" y="2362320"/>
            <a:ext cx="213372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DIC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smoking in publi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8:57Z</dcterms:modified>
  <cp:revision>18</cp:revision>
  <dc:subject/>
  <dc:title>Project TND  (Project Towards No Drug Abuse)</dc:title>
</cp:coreProperties>
</file>